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901-EEDA-4A16-98D7-BFA23D79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AF2-2A22-414B-8D7C-909C1097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36A-F9DB-46E0-9B61-37B2FF79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88A-5BC3-4C78-85A0-3D6A1E99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D76-D352-409E-8C3B-266A51E4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0C6-FB0F-48DC-805D-C9B41215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FED-FEDD-4A18-8E10-A1AB1B50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3D5-7057-48E0-91C1-9FA45565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81F-25EF-41DE-9095-2E5ABBAA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274-EBB4-42A0-B369-18ED1048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13E-FE6C-4B89-A431-0E359C83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552-B424-4C92-A25F-7246EC10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9C52-D590-4469-B9C8-12865974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-27000"/>
            <a:ext cx="9144000" cy="579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вят Си, Боже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вят Си, Боже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00"/>
                </a:solidFill>
                <a:latin typeface="Monotype Corsiva"/>
              </a:rPr>
              <a:t>Свят и превъзвишен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043000"/>
            <a:ext cx="9144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Ти Си достое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лава и почи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99cc00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с радост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           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да Ти поднесе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2000" y="826920"/>
            <a:ext cx="8172720" cy="640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ащото Ти са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ътворил Си земята,</a:t>
            </a:r>
            <a:r>
              <a:rPr b="1" lang="bg-BG" sz="6000" spc="-1" strike="noStrike">
                <a:solidFill>
                  <a:srgbClr val="99cc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99cc00"/>
                </a:solidFill>
                <a:latin typeface="Monotype Corsiva"/>
              </a:rPr>
              <a:t>  </a:t>
            </a: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небето 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              </a:t>
            </a: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целия свя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89000"/>
            <a:ext cx="8820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Ти Си достое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лава и почи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99cc00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с радост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          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да Ти поднесе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-27000"/>
            <a:ext cx="9144000" cy="579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вят Си, Боже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вят Си, Боже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ffff00"/>
                </a:solidFill>
                <a:latin typeface="Monotype Corsiva"/>
              </a:rPr>
              <a:t>Свят и превъзвишен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773360"/>
            <a:ext cx="9144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Ти Си достое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лава и почи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99cc00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с радост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           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да Ти поднесе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260280"/>
            <a:ext cx="8172720" cy="640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Защото Ти са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ътворил Си земята,</a:t>
            </a:r>
            <a:r>
              <a:rPr b="1" lang="bg-BG" sz="6600" spc="-1" strike="noStrike">
                <a:solidFill>
                  <a:srgbClr val="99cc00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99cc00"/>
                </a:solidFill>
                <a:latin typeface="Monotype Corsiva"/>
              </a:rPr>
              <a:t>  </a:t>
            </a: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небето 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            </a:t>
            </a:r>
            <a:r>
              <a:rPr b="1" lang="bg-BG" sz="7200" spc="-1" strike="noStrike">
                <a:solidFill>
                  <a:srgbClr val="ffff00"/>
                </a:solidFill>
                <a:latin typeface="Monotype Corsiva"/>
              </a:rPr>
              <a:t>целия свя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382840"/>
            <a:ext cx="8820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Ти Си достое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слава и почи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99cc00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с радост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          </a:t>
            </a:r>
            <a:r>
              <a:rPr b="1" lang="bg-BG" sz="8000" spc="-1" strike="noStrike">
                <a:solidFill>
                  <a:srgbClr val="99cc00"/>
                </a:solidFill>
                <a:latin typeface="Monotype Corsiva"/>
              </a:rPr>
              <a:t>да Ти поднесе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16:20Z</dcterms:created>
  <dc:creator>TrifonTrifonow</dc:creator>
  <dc:description/>
  <dc:language>en-US</dc:language>
  <cp:lastModifiedBy>TrifonTrifonow</cp:lastModifiedBy>
  <dcterms:modified xsi:type="dcterms:W3CDTF">2005-12-15T06:16:49Z</dcterms:modified>
  <cp:revision>1</cp:revision>
  <dc:subject/>
  <dc:title>Slide 1</dc:title>
</cp:coreProperties>
</file>